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wmf" ContentType="image/x-wmf"/>
  <Override PartName="/ppt/media/image4.gif" ContentType="image/gif"/>
  <Override PartName="/ppt/media/image5.gif" ContentType="image/gif"/>
  <Override PartName="/ppt/media/image6.wmf" ContentType="image/x-wmf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14CD-9E18-4972-9657-0C05844E1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cientific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cientific Metho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trols and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rols and Variab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fic Experiments Follow R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xperimenter changes one factor and observes or measures what happ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cientific Experiments Follow Ru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 experimenter changes one factor and observes or measures what happe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trol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perimenter makes a special effort to keep other factors constant so that they will not effect the outc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se factors are called control variab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ontrol Variab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experimenter makes a special effort to keep other factors constant so that they will not effect the outcom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ose factors are called control variables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Purpose of a Contro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s are NOT being tes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s are used for COMPAR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hat is the Purpose of a Control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rols are NOT being test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rols are used for COMPARIS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at is changed is known as the independent varia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at is measured or observed is called the dependent varia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ther Variab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factor that is changed is known as the independent variabl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factor that is measured or observed is called the dependent variabl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of Controls &amp;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 suppose you want to figure out the fastest route to walk home from schoo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try several different routes and time how long it takes you to get home by each o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you are only interested in finding a route that is fastest for you, you will do the walking yoursel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ample of Controls &amp; Variab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 example, suppose you want to figure out the fastest route to walk home from school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ou will try several different routes and time how long it takes you to get home by each on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nce you are only interested in finding a route that is fastest for you, you will do the walking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Variables in Your Experi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ying the route is the independent varia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it takes is the dependent varia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ing the same walker throughout makes the walker a control varia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hat are the Variables in Your Experiment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rying the route is the independent variabl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time it takes is the dependent variabl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eeping the same walker throughout makes the walker a control variabl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ore thing… it is best to make several trials with each independent vari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e more thing… it is best to make several trials with each independent variab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alid Experi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 Experime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: To be a Valid Experime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groups are required --- the control &amp; experimental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should be only one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member: To be a Valid Experiment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groups are required --- the control &amp; experimental group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re should be only one variab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in the Scientific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eps in the Scientific Metho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 Colle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s of th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 be quantitative (numbers) or qualit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sults of the 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y be quantitative (numbers) or qualita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be organiz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organized into charts, tables, or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ust be organiz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n be organized into charts, tables, or graph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the hypothesis based on the data obtained from th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answer to the hypothesis based on the data obtained from the 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to verify the results, experiments must be retes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order to verify the results, experiments must be retest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a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Identify a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State Observations about the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Form a Hypothesis about the problem (if…then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Design an Experiment to test the 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Collect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Form a 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) Re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lving a Probl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)Identify a Probl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) State Observations about the probl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) Form a Hypothesis about the problem (if…then…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) Design an Experiment to test the 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) Collect Da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) Form a Conclu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7) Rete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thered through your s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cientist notices something in their natural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athered through your sens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scientist notices something in their natural wor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xample of an observation might be noticing that many salamanders near a pond have curved, not straight, ta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 example of an observation might be noticing that many salamanders near a pond have curved, not straight, tai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uggested solution to the probl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be tes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written as If…Then… stat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dicts an outc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suggested solution to the probl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ust be testab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metimes written as If…Then… stateme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edicts an outco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xample of a hypothesis might be that the salamanders have curved tails due to a pollutant in the moist soil where they liv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 example of a hypothesis might be that the salamanders have curved tails due to a pollutant in the moist soil where they liv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ocedure to test the hypothe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procedure to test the hypothesi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– factor in the experiment that is being tes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riable – factor in the experiment that is being test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or “valid” experiment will only have ONE variab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good or “valid” experiment will only have ONE variable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9E2C-85F3-4DEB-8533-8481E2DC6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1A0E-C577-4C89-85B8-43D5DC04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3D1D-7C47-4C4C-86B6-E70E9ED88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3987-6E09-40F2-8893-21FA49DB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951B-34A0-48C3-A2DA-0D5876194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55D3-2699-48B1-96D8-575CE83E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DBC4-B297-466E-9CB3-239D18F4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3FD1-8818-48AD-B5BD-CDF699F5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4C67-3A8B-42AA-8889-305F9C07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8AB0-484B-4127-9FE9-0BDEB2E6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A8DA-FE7D-4E0D-B22F-6C8CB51B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B4E9-E426-40EB-B326-F9E5D425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3BC0-3D28-4B0F-8912-7339E3A5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88F5-46E9-42FE-908A-6E6F3CEF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908E-6AD1-47E4-A432-633AD72E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FAB7-AC66-4A23-8534-5A6152884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E089-2C1A-4F2D-A2AA-C1A1AA2AE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8354-4B68-4D8D-9AF0-C420DAF3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0DA0-DCD3-4F8F-A2C6-383FD173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8E62-5A39-4A5F-9453-22C7BE3B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1387-AAE4-4132-859C-AA337A56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E498-B790-42D7-9220-21A9B265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2B1D-F723-4091-81C4-FB63CD4E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8D83-19B1-4152-9F9E-F96D20FA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2C56-6892-4AB4-B373-58EEDAB3D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759C-C8E3-4800-B801-FC9E1DE8A1FE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Scientific Method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ontrols and Variable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Scientific Experiments Follow Rul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 experimenter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changes one factor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observes or measures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happen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4" descr="professor7"/>
          <p:cNvPicPr/>
          <p:nvPr/>
        </p:nvPicPr>
        <p:blipFill>
          <a:blip r:embed="rId1"/>
          <a:stretch/>
        </p:blipFill>
        <p:spPr>
          <a:xfrm>
            <a:off x="5068800" y="2498760"/>
            <a:ext cx="3886200" cy="309384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The Control Variab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experimenter makes a special effort to keep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factors constant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so that they will not effect the outcome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ose factors are called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control variables.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What is the Purpose of a Control?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709720"/>
            <a:ext cx="777240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rols are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being test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rols are used for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COMPARIS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Other Variable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factor that is changed is known as the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independent variable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factor that is measured or observed is called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pendent variabl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Example of Controls &amp; Varia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4582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or examp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uppose you want to figure out th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astest rou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walk home from school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will try several different routes and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ime how long it tak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 to get home by each on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ce you are only interested in finding a route that is fastest for you,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you will do the walking yoursel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hat are the Variables in Your Experime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Varying the route is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ndependent variabl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time it takes is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pendent variabl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Keeping the same walker throughout makes the walker a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ontrol variable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One more thing… it is best to make 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several trials</a:t>
            </a: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 with each independent variable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Valid Experiment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member: To be a Valid Experiment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wo group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required --- the control &amp; experimental group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should be only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on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variab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teps in 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ypothe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peri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t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6" descr="j0076135"/>
          <p:cNvPicPr/>
          <p:nvPr/>
        </p:nvPicPr>
        <p:blipFill>
          <a:blip r:embed="rId1"/>
          <a:stretch/>
        </p:blipFill>
        <p:spPr>
          <a:xfrm>
            <a:off x="1182600" y="2692440"/>
            <a:ext cx="3810240" cy="27655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Dat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Resul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 the experi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y b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quantitativ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numbers) or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qualitativ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6" descr="j0076136"/>
          <p:cNvPicPr/>
          <p:nvPr/>
        </p:nvPicPr>
        <p:blipFill>
          <a:blip r:embed="rId1"/>
          <a:stretch/>
        </p:blipFill>
        <p:spPr>
          <a:xfrm>
            <a:off x="5145120" y="2376360"/>
            <a:ext cx="3809880" cy="339588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Dat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ust be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organiz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an be organized into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charts, tables, or graph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4" descr="j0076136"/>
          <p:cNvPicPr/>
          <p:nvPr/>
        </p:nvPicPr>
        <p:blipFill>
          <a:blip r:embed="rId1"/>
          <a:stretch/>
        </p:blipFill>
        <p:spPr>
          <a:xfrm>
            <a:off x="5145120" y="2376360"/>
            <a:ext cx="3809880" cy="33958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Conclu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4154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answe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 the hypothesis based on the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data obtained from the experi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6" descr="bs01344_"/>
          <p:cNvPicPr/>
          <p:nvPr/>
        </p:nvPicPr>
        <p:blipFill>
          <a:blip r:embed="rId1"/>
          <a:stretch/>
        </p:blipFill>
        <p:spPr>
          <a:xfrm>
            <a:off x="5145120" y="2435400"/>
            <a:ext cx="3809880" cy="32781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etes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 order to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verify the resul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experiments must be retested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6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Review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olving a Problem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44197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Identif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) State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bservation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bout the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) Form a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ypothesi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bout the problem (if…then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) Design an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xperiment to test the hypoth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) Collect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6) Form a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7)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Re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6" descr="j0076187"/>
          <p:cNvPicPr/>
          <p:nvPr/>
        </p:nvPicPr>
        <p:blipFill>
          <a:blip r:embed="rId1"/>
          <a:stretch/>
        </p:blipFill>
        <p:spPr>
          <a:xfrm>
            <a:off x="5210280" y="2017800"/>
            <a:ext cx="3679560" cy="41148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Observation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athered through you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en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scientist notices something in thei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natur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6" descr="j0078802"/>
          <p:cNvPicPr/>
          <p:nvPr/>
        </p:nvPicPr>
        <p:blipFill>
          <a:blip r:embed="rId1"/>
          <a:stretch/>
        </p:blipFill>
        <p:spPr>
          <a:xfrm>
            <a:off x="5145120" y="2351160"/>
            <a:ext cx="3809880" cy="34480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Observation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17440"/>
            <a:ext cx="430704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ampl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f an observat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ight be noticing that many salamanders near a pond have curved, not straight, 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4" descr="j0078802"/>
          <p:cNvPicPr/>
          <p:nvPr/>
        </p:nvPicPr>
        <p:blipFill>
          <a:blip r:embed="rId1"/>
          <a:stretch/>
        </p:blipFill>
        <p:spPr>
          <a:xfrm>
            <a:off x="5145120" y="2351160"/>
            <a:ext cx="3809880" cy="34480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Hypothesi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43038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suggested solution to the probl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b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es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metimes written as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If…Then…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at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redic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 outc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6" descr="bd05030_"/>
          <p:cNvPicPr/>
          <p:nvPr/>
        </p:nvPicPr>
        <p:blipFill>
          <a:blip r:embed="rId1"/>
          <a:stretch/>
        </p:blipFill>
        <p:spPr>
          <a:xfrm>
            <a:off x="5526000" y="2017800"/>
            <a:ext cx="3046680" cy="4114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Hypothesi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43038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ample of a hypothesi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ight be that the salamanders have curved tails due to a pollutant in the moist soil where they liv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4" descr="bd05030_"/>
          <p:cNvPicPr/>
          <p:nvPr/>
        </p:nvPicPr>
        <p:blipFill>
          <a:blip r:embed="rId1"/>
          <a:stretch/>
        </p:blipFill>
        <p:spPr>
          <a:xfrm>
            <a:off x="5526000" y="2017800"/>
            <a:ext cx="3046680" cy="41148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Experime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procedure to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test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hypothesi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6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Experime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Variabl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factor in the experiment that is being test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4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Experime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good or “valid” experiment will only have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ONE variable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4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03:26:13Z</dcterms:created>
  <dc:creator>Cheryl Massengale</dc:creator>
  <dc:description/>
  <dc:language>en-US</dc:language>
  <cp:lastModifiedBy>LEGION</cp:lastModifiedBy>
  <dcterms:modified xsi:type="dcterms:W3CDTF">2016-12-07T09:22:17Z</dcterms:modified>
  <cp:revision>10</cp:revision>
  <dc:subject/>
  <dc:title>Scientific Method</dc:title>
</cp:coreProperties>
</file>